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8DF-0D4C-4F5F-AEBC-5EF487B3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99E-732C-4D93-9BB1-E6A0433B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298-D242-4008-B5F1-00C0CF1D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150-5BFD-4B5F-A171-BD42D64A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AF3-C8B8-4756-AE1B-4486FDF8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61C-7FAE-4BFB-AE3E-9902AB41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173-64A0-4E55-9317-B0DA91D2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647-5917-4A65-A9DD-BC22FD0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25F-C38F-4C40-BA12-22C551E1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908-7C15-439C-AFAE-FA39EDD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B60-BF1D-4A12-9DC1-7AB3E983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E77-53B1-48DA-9209-DED63F9C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801F-EAC4-4545-B1DF-491FE2F83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24000" y="4581360"/>
            <a:ext cx="8353440" cy="1920960"/>
          </a:xfrm>
          <a:prstGeom prst="rect">
            <a:avLst/>
          </a:prstGeom>
          <a:noFill/>
          <a:ln w="117360">
            <a:solidFill>
              <a:srgbClr val="da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8920" y="259920"/>
            <a:ext cx="8101080" cy="39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500" spc="-1" strike="noStrike">
                <a:solidFill>
                  <a:srgbClr val="0070c0"/>
                </a:solidFill>
                <a:latin typeface="Mistral"/>
              </a:rPr>
              <a:t>Тема урока:</a:t>
            </a:r>
            <a:br>
              <a:rPr sz="10500"/>
            </a:br>
            <a:r>
              <a:rPr b="0" lang="ru-RU" sz="10500" spc="-1" strike="noStrike">
                <a:solidFill>
                  <a:srgbClr val="0070c0"/>
                </a:solidFill>
                <a:latin typeface="Mistral"/>
              </a:rPr>
              <a:t>«Конфликт </a:t>
            </a:r>
            <a:br>
              <a:rPr sz="10500"/>
            </a:br>
            <a:r>
              <a:rPr b="0" lang="ru-RU" sz="10500" spc="-1" strike="noStrike">
                <a:solidFill>
                  <a:srgbClr val="0070c0"/>
                </a:solidFill>
                <a:latin typeface="Mistral"/>
              </a:rPr>
              <a:t> поколений»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00080" y="45720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в романе И.С. Тургенева «Отцы и дет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«Отцы и дети». Глава 10. Спор Базарова с Павлом Петровичем. Художник Д. Боровский"/>
          <p:cNvPicPr/>
          <p:nvPr/>
        </p:nvPicPr>
        <p:blipFill>
          <a:blip r:embed="rId1"/>
          <a:stretch/>
        </p:blipFill>
        <p:spPr>
          <a:xfrm>
            <a:off x="5979960" y="122400"/>
            <a:ext cx="3041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3c78a"/>
              </a:gs>
              <a:gs pos="100000">
                <a:srgbClr val="faeddd"/>
              </a:gs>
            </a:gsLst>
            <a:lin ang="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istral"/>
              </a:rPr>
              <a:t>Итоги урока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Есть ли в этом конфликте победител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Хотели ли герои найти истину или просто выясняли отношения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6" descr="10007104_0.tmp"/>
          <p:cNvPicPr/>
          <p:nvPr/>
        </p:nvPicPr>
        <p:blipFill>
          <a:blip r:embed="rId1"/>
          <a:stretch/>
        </p:blipFill>
        <p:spPr>
          <a:xfrm>
            <a:off x="6561000" y="0"/>
            <a:ext cx="2583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Цели урока 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istral"/>
              </a:rPr>
              <a:t>1.Проанализировать образы главных героев, определить их идейные взгляд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istral"/>
              </a:rPr>
              <a:t>2.Выяснить, что может привести к конфликту между людь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istral"/>
              </a:rPr>
              <a:t>3.Научиться выходить из конфликтной ситуа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5840" y="836280"/>
            <a:ext cx="84009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это столкновение взаимоисключающих интересов двух и более сторон, а также острый способ разрешения возникающих противоре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общность людей, живущих в определённый исторический отрезок времен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00680" y="400032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Кирсанов Николай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Петрови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" descr="AnenkovN_0.tmp"/>
          <p:cNvPicPr/>
          <p:nvPr/>
        </p:nvPicPr>
        <p:blipFill>
          <a:blip r:embed="rId1"/>
          <a:stretch/>
        </p:blipFill>
        <p:spPr>
          <a:xfrm>
            <a:off x="214200" y="714240"/>
            <a:ext cx="3643560" cy="530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Николай Пет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0" y="192888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, люб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ет хозяйство, заботится, интересу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ится понять взгляды моло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ря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AnenkovN_0.tmp"/>
          <p:cNvPicPr/>
          <p:nvPr/>
        </p:nvPicPr>
        <p:blipFill>
          <a:blip r:embed="rId1"/>
          <a:stretch/>
        </p:blipFill>
        <p:spPr>
          <a:xfrm>
            <a:off x="5286240" y="3857760"/>
            <a:ext cx="1913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00680" y="407160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Кирсанов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 Павел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Петрови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Николай Петрович Кирсанов. Художник Д. Боровский"/>
          <p:cNvPicPr/>
          <p:nvPr/>
        </p:nvPicPr>
        <p:blipFill>
          <a:blip r:embed="rId1"/>
          <a:stretch/>
        </p:blipFill>
        <p:spPr>
          <a:xfrm>
            <a:off x="212760" y="573120"/>
            <a:ext cx="3646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Павел Пет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Николай Петрович Кирсанов. Художник Д. Боровский"/>
          <p:cNvPicPr/>
          <p:nvPr/>
        </p:nvPicPr>
        <p:blipFill>
          <a:blip r:embed="rId1"/>
          <a:stretch/>
        </p:blipFill>
        <p:spPr>
          <a:xfrm>
            <a:off x="5357880" y="4359240"/>
            <a:ext cx="171288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24640" y="1928880"/>
            <a:ext cx="666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стократичный, го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лужит, любит брата, сп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таивает дворян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6160" y="34286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istral"/>
              </a:rPr>
              <a:t>Евгений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Mistral"/>
              </a:rPr>
              <a:t>Васильевич 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Mistral"/>
              </a:rPr>
              <a:t> Базаро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Базаров. Художник Д. Боровский. 1980"/>
          <p:cNvPicPr/>
          <p:nvPr/>
        </p:nvPicPr>
        <p:blipFill>
          <a:blip r:embed="rId1"/>
          <a:stretch/>
        </p:blipFill>
        <p:spPr>
          <a:xfrm>
            <a:off x="285840" y="712800"/>
            <a:ext cx="37861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Евгений Базар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Базаров. Художник Д. Боровский. 1980"/>
          <p:cNvPicPr/>
          <p:nvPr/>
        </p:nvPicPr>
        <p:blipFill>
          <a:blip r:embed="rId1"/>
          <a:stretch/>
        </p:blipFill>
        <p:spPr>
          <a:xfrm>
            <a:off x="5357880" y="4359240"/>
            <a:ext cx="1639800" cy="2359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34640" y="1857240"/>
            <a:ext cx="77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дый, дея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учает, осуждает, сп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признает духов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чинец-нигилист, материа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41:44Z</dcterms:created>
  <dc:creator>Демидовы</dc:creator>
  <dc:description/>
  <dc:language>en-US</dc:language>
  <cp:lastModifiedBy>Запрягаев Руслан Алексеевич</cp:lastModifiedBy>
  <dcterms:modified xsi:type="dcterms:W3CDTF">2025-09-13T03:48:45Z</dcterms:modified>
  <cp:revision>92</cp:revision>
  <dc:subject/>
  <dc:title>Слайд 1</dc:title>
</cp:coreProperties>
</file>